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1B9-09C9-40BA-A0FC-D1D382E6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9AF-D837-4EF1-A1F9-6247692C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E4D-AA30-4750-8360-B972DBA3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B10-25CB-4644-8889-E9AB297E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DDD-C7E2-4AF4-AB3A-14476D09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B29-7237-47C9-A665-39683553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1E7-9DF1-450A-84E3-46C953DF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A5C-582D-45F6-9EB5-5DAC74B5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1B4-D183-4708-A21D-6F04CAF5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A5C-FB33-4851-8CB4-B230CFA4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266-A787-4EAA-9162-BE048F8F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3D4-6F0E-414D-9DC3-500B5CF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117E-83ED-401A-AF41-8CD711E59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bcPhonicsOne"/>
              </a:rPr>
              <a:t>Embedded Podcast Audio Into a PowerPoint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udacity File-Export as WA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enu icon at the top of the file-select details…determine WAV fi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PowerPoin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ools-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Link Sound File so it is larger than the WAV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Sound from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YES to pla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002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7:57:13Z</dcterms:created>
  <dc:creator>umsd</dc:creator>
  <dc:description/>
  <dc:language>en-US</dc:language>
  <cp:lastModifiedBy>umsd</cp:lastModifiedBy>
  <dcterms:modified xsi:type="dcterms:W3CDTF">2009-01-24T20:02:46Z</dcterms:modified>
  <cp:revision>3</cp:revision>
  <dc:subject/>
  <dc:title>Embedded Podcast Audio Into a PowerPoint Presentation</dc:title>
</cp:coreProperties>
</file>